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7804-FCAA-4568-BDC2-D44D136E7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487C-45AB-4A34-91CB-CF987E0EB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7738-6CF5-45F1-BB97-02887CB58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6D62-AA75-4CFC-9134-8DEADA02A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4BE-AAAB-4DC1-BFD7-7EEBD9F8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113-D6CC-4408-A116-00E1811B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3E9-D487-4B19-BD29-34643A86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ED2A-1CC2-4B69-B9CF-DD2C24EC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6AB-373C-4775-9D16-4680E1B5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A39-4E4E-45D1-BE59-F9A008EF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DE6-3D48-4404-91ED-62BB37FB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391-B276-4CC4-A049-34805A43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8863-345D-4E1E-AF69-276F8226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307-0397-44CA-B5DA-0D87F09B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EBA-0721-4D01-889C-0713B940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0AB-34A5-4D4D-BA32-B4CC0470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C1A0-411B-4CAD-8B46-010D4E6A1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going to Lond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hu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Elihu (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Elihu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ave Ow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4, 17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gli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hattan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9"/>
          <p:cNvSpPr/>
          <p:nvPr/>
        </p:nvSpPr>
        <p:spPr>
          <a:xfrm>
            <a:off x="152280" y="58672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2"/>
          <p:cNvSpPr/>
          <p:nvPr/>
        </p:nvSpPr>
        <p:spPr>
          <a:xfrm>
            <a:off x="533520" y="586728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r. 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0"/>
          <p:cNvSpPr/>
          <p:nvPr/>
        </p:nvSpPr>
        <p:spPr>
          <a:xfrm>
            <a:off x="-152280" y="664200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lingh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going to London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7, 17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4"/>
          <p:cNvSpPr/>
          <p:nvPr/>
        </p:nvSpPr>
        <p:spPr>
          <a:xfrm>
            <a:off x="1143000" y="66420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dy Seym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or to 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So glad you have returned to Manhattan! Would you like to join me for some tea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8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Just got back to New York! So ecstatic that the King’s Army has recaptured this great city.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15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just had a very intriguing meeting  with colleagues. I hope this plan goes we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2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st had tea with my au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6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I have just returned from Newport, Rhode Island with two new slaves. That was an interesting encounter at the dock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7" descr="http://www.washingtonreb.com/wp-content/uploads/2011/03/George_iii_england.jpg"/>
          <p:cNvPicPr/>
          <p:nvPr/>
        </p:nvPicPr>
        <p:blipFill>
          <a:blip r:embed="rId4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9" descr="http://www.esquire.com/cm/esquire/images/3d/jonathan-swift-0708-lg.jpg"/>
          <p:cNvPicPr/>
          <p:nvPr/>
        </p:nvPicPr>
        <p:blipFill>
          <a:blip r:embed="rId5"/>
          <a:stretch/>
        </p:blipFill>
        <p:spPr>
          <a:xfrm>
            <a:off x="152280" y="533520"/>
            <a:ext cx="1314720" cy="17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1" descr="http://www.esquire.com/cm/esquire/images/3d/jonathan-swift-0708-lg.jpg"/>
          <p:cNvPicPr/>
          <p:nvPr/>
        </p:nvPicPr>
        <p:blipFill>
          <a:blip r:embed="rId6"/>
          <a:stretch/>
        </p:blipFill>
        <p:spPr>
          <a:xfrm>
            <a:off x="2133720" y="2438280"/>
            <a:ext cx="457200" cy="609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1" descr="http://www.esquire.com/cm/esquire/images/3d/jonathan-swift-0708-lg.jpg"/>
          <p:cNvPicPr/>
          <p:nvPr/>
        </p:nvPicPr>
        <p:blipFill>
          <a:blip r:embed="rId7"/>
          <a:stretch/>
        </p:blipFill>
        <p:spPr>
          <a:xfrm>
            <a:off x="2133720" y="37339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1" descr="http://www.esquire.com/cm/esquire/images/3d/jonathan-swift-0708-lg.jpg"/>
          <p:cNvPicPr/>
          <p:nvPr/>
        </p:nvPicPr>
        <p:blipFill>
          <a:blip r:embed="rId8"/>
          <a:stretch/>
        </p:blipFill>
        <p:spPr>
          <a:xfrm>
            <a:off x="2133720" y="44197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1" descr="http://www.esquire.com/cm/esquire/images/3d/jonathan-swift-0708-lg.jpg"/>
          <p:cNvPicPr/>
          <p:nvPr/>
        </p:nvPicPr>
        <p:blipFill>
          <a:blip r:embed="rId9"/>
          <a:stretch/>
        </p:blipFill>
        <p:spPr>
          <a:xfrm>
            <a:off x="2133720" y="51055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1" descr="http://www.esquire.com/cm/esquire/images/3d/jonathan-swift-0708-lg.jpg"/>
          <p:cNvPicPr/>
          <p:nvPr/>
        </p:nvPicPr>
        <p:blipFill>
          <a:blip r:embed="rId10"/>
          <a:stretch/>
        </p:blipFill>
        <p:spPr>
          <a:xfrm>
            <a:off x="2133720" y="57913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4" descr="http://www.cc.nctu.edu.tw/~sheen/el/pic/coleridge.jpg"/>
          <p:cNvPicPr/>
          <p:nvPr/>
        </p:nvPicPr>
        <p:blipFill>
          <a:blip r:embed="rId11"/>
          <a:stretch/>
        </p:blipFill>
        <p:spPr>
          <a:xfrm>
            <a:off x="685800" y="5334120"/>
            <a:ext cx="474840" cy="566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5" descr="http://www.northcarolinahistory.org/images/uploaded/posts/screen_445bac4262927.jpg"/>
          <p:cNvPicPr/>
          <p:nvPr/>
        </p:nvPicPr>
        <p:blipFill>
          <a:blip r:embed="rId12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6" descr="http://www.fairfaxcounty.gov/library/images/information/people/virginians/johnSmith.jpg"/>
          <p:cNvPicPr/>
          <p:nvPr/>
        </p:nvPicPr>
        <p:blipFill>
          <a:blip r:embed="rId13"/>
          <a:stretch/>
        </p:blipFill>
        <p:spPr>
          <a:xfrm>
            <a:off x="152280" y="60199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7" descr="http://periodc-readingguide-chains.wikispaces.com/file/view/madam.jpg/116598099/madam.jpg"/>
          <p:cNvPicPr/>
          <p:nvPr/>
        </p:nvPicPr>
        <p:blipFill>
          <a:blip r:embed="rId14"/>
          <a:stretch/>
        </p:blipFill>
        <p:spPr>
          <a:xfrm>
            <a:off x="762120" y="6095880"/>
            <a:ext cx="38088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8" descr="http://www.gogmsite.net/_Media/1769_isabella_viscountess_m.jpg"/>
          <p:cNvPicPr/>
          <p:nvPr/>
        </p:nvPicPr>
        <p:blipFill>
          <a:blip r:embed="rId15"/>
          <a:stretch/>
        </p:blipFill>
        <p:spPr>
          <a:xfrm>
            <a:off x="1295280" y="6019920"/>
            <a:ext cx="38124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5" descr="http://www.northcarolinahistory.org/images/uploaded/posts/screen_445bac4262927.jpg"/>
          <p:cNvPicPr/>
          <p:nvPr/>
        </p:nvPicPr>
        <p:blipFill>
          <a:blip r:embed="rId16"/>
          <a:stretch/>
        </p:blipFill>
        <p:spPr>
          <a:xfrm>
            <a:off x="2057400" y="31240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going to Lond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Elihu (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Elihu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>
            <a:hlinkClick r:id="rId3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ave Own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4,17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gli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hattan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lave Ow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July 4, 17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nhattan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nne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Angli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roquet,  Cricket,  Fencin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Poetry,  Reading,  Drinking Tea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Bach, English National Anth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Romeo and Juliet,  Macbeth,  Hamle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Judge Judy, How  The British Lost The W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Crusoe,  Shakespeare's  Sonnet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Va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0"/>
          <p:cNvSpPr/>
          <p:nvPr/>
        </p:nvSpPr>
        <p:spPr>
          <a:xfrm>
            <a:off x="838080" y="617220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Lockton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0 Wall Street, Manhattan, NY 1000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12) 256-2678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9" descr="http://www.esquire.com/cm/esquire/images/3d/jonathan-swift-0708-lg.jpg"/>
          <p:cNvPicPr/>
          <p:nvPr/>
        </p:nvPicPr>
        <p:blipFill>
          <a:blip r:embed="rId5"/>
          <a:stretch/>
        </p:blipFill>
        <p:spPr>
          <a:xfrm>
            <a:off x="152280" y="533520"/>
            <a:ext cx="1314720" cy="175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4" descr="http://www.msp.umb.edu/primarymaterials/afam/ship.jpg"/>
          <p:cNvPicPr/>
          <p:nvPr/>
        </p:nvPicPr>
        <p:blipFill>
          <a:blip r:embed="rId6"/>
          <a:stretch/>
        </p:blipFill>
        <p:spPr>
          <a:xfrm>
            <a:off x="152280" y="5334120"/>
            <a:ext cx="534960" cy="685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http://s0.geograph.org.uk/photos/63/98/639887_7f422a72.jpg"/>
          <p:cNvPicPr/>
          <p:nvPr/>
        </p:nvPicPr>
        <p:blipFill>
          <a:blip r:embed="rId7"/>
          <a:stretch/>
        </p:blipFill>
        <p:spPr>
          <a:xfrm>
            <a:off x="152280" y="6019920"/>
            <a:ext cx="50328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2"/>
          <p:cNvSpPr/>
          <p:nvPr/>
        </p:nvSpPr>
        <p:spPr>
          <a:xfrm>
            <a:off x="63244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ihu Lock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hu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380880" y="1828800"/>
            <a:ext cx="746784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Elih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ihu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Lockton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going to Lond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7" descr="http://s0.geograph.org.uk/photos/63/98/639887_7f422a72.jpg"/>
          <p:cNvPicPr/>
          <p:nvPr/>
        </p:nvPicPr>
        <p:blipFill>
          <a:blip r:embed="rId3"/>
          <a:stretch/>
        </p:blipFill>
        <p:spPr>
          <a:xfrm>
            <a:off x="2209680" y="5105520"/>
            <a:ext cx="83844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4" descr="http://www.msp.umb.edu/primarymaterials/afam/ship.jpg"/>
          <p:cNvPicPr/>
          <p:nvPr/>
        </p:nvPicPr>
        <p:blipFill>
          <a:blip r:embed="rId4"/>
          <a:stretch/>
        </p:blipFill>
        <p:spPr>
          <a:xfrm>
            <a:off x="762120" y="5181480"/>
            <a:ext cx="847440" cy="1087560"/>
          </a:xfrm>
          <a:prstGeom prst="rect">
            <a:avLst/>
          </a:prstGeom>
          <a:ln w="0">
            <a:noFill/>
          </a:ln>
        </p:spPr>
      </p:pic>
      <p:pic>
        <p:nvPicPr>
          <p:cNvPr id="171" name="ipfGTHhi2tks28hsM:" descr="http://t1.gstatic.com/images?q=tbn:ANd9GcRktNMpzXezD9Svnl6X-5N0FTZB9SERjfPnx1PjHCiI8rm_3Fv89CP21Q"/>
          <p:cNvPicPr/>
          <p:nvPr/>
        </p:nvPicPr>
        <p:blipFill>
          <a:blip r:embed="rId5"/>
          <a:stretch/>
        </p:blipFill>
        <p:spPr>
          <a:xfrm>
            <a:off x="3657600" y="5029200"/>
            <a:ext cx="885960" cy="1181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9" descr="http://www.esquire.com/cm/esquire/images/3d/jonathan-swift-0708-lg.jpg"/>
          <p:cNvPicPr/>
          <p:nvPr/>
        </p:nvPicPr>
        <p:blipFill>
          <a:blip r:embed="rId6"/>
          <a:stretch/>
        </p:blipFill>
        <p:spPr>
          <a:xfrm>
            <a:off x="0" y="380880"/>
            <a:ext cx="762120" cy="1016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6" descr="http://www.freewebs.com/bgmodsite/company.gif"/>
          <p:cNvPicPr/>
          <p:nvPr/>
        </p:nvPicPr>
        <p:blipFill>
          <a:blip r:embed="rId7"/>
          <a:stretch/>
        </p:blipFill>
        <p:spPr>
          <a:xfrm>
            <a:off x="2666880" y="1905120"/>
            <a:ext cx="1963800" cy="1236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8" descr="http://1.bp.blogspot.com/_R-qpugR3c3Q/RuIwxQCfzQI/AAAAAAAAABQ/Pd27VN5UgH0/s320/aristocrat.jpg"/>
          <p:cNvPicPr/>
          <p:nvPr/>
        </p:nvPicPr>
        <p:blipFill>
          <a:blip r:embed="rId8"/>
          <a:stretch/>
        </p:blipFill>
        <p:spPr>
          <a:xfrm>
            <a:off x="762120" y="1828800"/>
            <a:ext cx="963360" cy="1447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0" descr="http://4.bp.blogspot.com/-TQSqOUjLhRQ/Ta53EQdb0aI/AAAAAAAASU0/6qhHNEerV5o/s1600/british+flag-.jpg"/>
          <p:cNvPicPr/>
          <p:nvPr/>
        </p:nvPicPr>
        <p:blipFill>
          <a:blip r:embed="rId9"/>
          <a:stretch/>
        </p:blipFill>
        <p:spPr>
          <a:xfrm>
            <a:off x="5562720" y="1905120"/>
            <a:ext cx="1752480" cy="1292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3" descr="http://cp91279.biography.com/1120330742/1120330742_1738733155_bio-top250-johnadams-independence-102213500001.jpg?pubId=1120330742"/>
          <p:cNvPicPr/>
          <p:nvPr/>
        </p:nvPicPr>
        <p:blipFill>
          <a:blip r:embed="rId10"/>
          <a:stretch/>
        </p:blipFill>
        <p:spPr>
          <a:xfrm>
            <a:off x="685800" y="3505320"/>
            <a:ext cx="1320840" cy="99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5" descr="http://deila.dickinson.edu/theirownwords/images/author/RushB.jpg"/>
          <p:cNvPicPr/>
          <p:nvPr/>
        </p:nvPicPr>
        <p:blipFill>
          <a:blip r:embed="rId11"/>
          <a:stretch/>
        </p:blipFill>
        <p:spPr>
          <a:xfrm>
            <a:off x="3200400" y="3276720"/>
            <a:ext cx="1066680" cy="1274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7" descr="http://my.wn.com/image/Henry%20Pelham%20by%20William%20Hoare.jpg"/>
          <p:cNvPicPr/>
          <p:nvPr/>
        </p:nvPicPr>
        <p:blipFill>
          <a:blip r:embed="rId12"/>
          <a:stretch/>
        </p:blipFill>
        <p:spPr>
          <a:xfrm>
            <a:off x="5791320" y="3352680"/>
            <a:ext cx="961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3T13:41:22Z</dcterms:modified>
  <cp:revision>36</cp:revision>
  <dc:subject/>
  <dc:title>Profile</dc:title>
</cp:coreProperties>
</file>